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1A42-D775-4150-A01D-7B95B0AF7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29C4-BE19-4F3D-AFE8-0894592B5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B64A-1736-4120-93E5-672A1F8E7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2C8F-AE2F-49C7-A453-79D6ABDF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rm groups based on connections that you make as you wander around sharing your c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e prepared to explain how your group formed their grou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oes anyone want to swit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the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the math content difficulty with part to part and part to whole that might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867E-7A80-48F2-BA0F-0D483775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ulti strategy multi so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FAF2-084A-4DD5-B5D3-4C764C0C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irs and small groups convince the whole group that their solution makes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4661-13A9-4744-BC7E-489A3D255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DDC9-2626-4EF1-BEF1-FC0FA639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BCD-9C9E-4E0D-B5C1-31BA1447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FAF-CAD0-4206-AA04-D70CF937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840-830B-4C67-97A5-7520DA19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046-F54E-4CFF-A1CD-24C5D1D5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9FA4-5FFB-48CF-8327-46EB2A0F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FBD5-D8D5-436B-BF6B-47791866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13B3-B71F-4EA4-88BF-57AE48CD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7DFE-BE03-4E84-A602-EE46BDC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44F6-B144-422F-A462-453CE14C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BFF0-A19B-4496-8320-C3DB4AB4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62F1-FB81-4758-A775-961B0B8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818-AC1D-403C-AF6D-87EC678F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416D-3816-4972-8F28-615E19E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22CD-0A96-46CB-AD63-33D2392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5558-7CDA-49DD-90C1-85D3AF9C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5AAC-C9FB-4B31-ABDB-07180D3C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D81D-E61A-4860-A3AA-2BCF42F4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D0F-38BF-4009-ACAA-86B90772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5F9-97C7-48D8-88CD-CC2A1848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9B1-0E8B-4066-AC88-E0CF51F8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9D6-C411-4D4C-9994-809D9DCC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000-7DD1-41FD-B700-5BE93D6B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97F-BEF3-4945-8F9C-2FAD7D7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F5F-2B87-44F6-AA51-B7B2AB5A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BFD6-8831-4D2F-93C4-71FB0B0ACFC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8A13-CC87-439C-9CE8-E56F469DCFC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ades 7/8 Breakout Session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reakout Session goal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ience a three-part lesson based on an open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inue to develop understandings of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strategies for opening clos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Three Part Less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cc33"/>
                </a:solidFill>
                <a:latin typeface="Arial"/>
              </a:rPr>
              <a:t>Minds 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cc33"/>
                </a:solidFill>
                <a:latin typeface="Arial"/>
              </a:rPr>
              <a:t>making connections in proportional reason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olve an open problem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vince a skeptic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Arial"/>
              </a:rPr>
              <a:t>Consoli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reflect on open tas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What connections can you make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al strategy – Te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Process 3"/>
          <p:cNvSpPr/>
          <p:nvPr/>
        </p:nvSpPr>
        <p:spPr>
          <a:xfrm>
            <a:off x="357120" y="928800"/>
            <a:ext cx="7858080" cy="5429160"/>
          </a:xfrm>
          <a:prstGeom prst="flowChartProcess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olve the question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five fractions that are not equivalent and that are greater than ½ and less than ¾.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ain how you know that your fractions meet the criteria.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 variety of models and representations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vince a skeptic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five fractions that are greater than ½ and less than ¾.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ain how you know that your fractions meet the criteria.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 variety of models and representations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030a0"/>
                </a:solidFill>
                <a:latin typeface="Arial"/>
              </a:rPr>
              <a:t>Paper Pas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pond to the prompt on your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what others wrote – add comments or clarify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icture Book Favourit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9T16:55:18Z</dcterms:modified>
  <cp:revision>174</cp:revision>
  <dc:subject/>
  <dc:title>Slide 1</dc:title>
</cp:coreProperties>
</file>